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981-69A7-45E5-9D39-11F52C90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8B1-716F-4862-BBBD-35D9CC7A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C67-2ED6-4F5D-8A86-CC84D02B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7F5-20E6-4F6D-B577-70B73FAA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768-2F30-44DA-A1B5-18E4886F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21A-F8FD-43A5-932F-99E1F37F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856-B4F9-4DCA-BF6F-E7152E83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337-012C-4037-B0CF-EDA43863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D12-3F2B-44C7-A286-7617A5F2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814-19CC-41E3-B00B-C817C971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9E6-5ABE-4E05-8E09-34E3789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A66-B597-4747-AB7A-7230E0B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EB96-B157-4078-B39B-6DF5B76E8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PM_sol_Garage_Gantt.xls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PM_sol_Garage_Pert.doc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609480"/>
            <a:ext cx="77756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A Unit 3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-Solving Methodology &amp;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s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sheets, Numer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nos. no decim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s representing monetary values, either 2 decimal places or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left, numerical data right alig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$ consis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otals use a single line above total and grand totals single line above and doubl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: title, axes labelled and legend or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s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aningful name of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ames of forms indicate their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ields, short descriptive names &amp; not use 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Queries include search criteria in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f it takes two people two days to complete a task how long does it ta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ur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ight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ject egs: office blocks, freeway projects; change projects: problem resolution, (health &amp; safety), cost reduction, management, development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f it takes two people two days to complete a task how long does it ta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ur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ight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ject egs: office blocks, freeway projects; change projects: problem resolution, (health &amp; safety), cost reduction, management, development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f it takes two people two days to complete a task how long does it ta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ur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ight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ject egs: office blocks, freeway projects; change projects: problem resolution, (health &amp; safety), cost reduction, management, development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f it takes two people two days to complete a task how long does it ta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ur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ight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ject egs: office blocks, freeway projects; change projects: problem resolution, (health &amp; safety), cost reduction, management, development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project is an activity hav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specific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time frame for com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unique one-tim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finite resource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sequence of tasks and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anned undertaking that seek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hieve some go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fixed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a set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nite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79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cumenting a Project: GANTT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the main project documentation details with details of tasks on horizontal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 member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a Projec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t Charts | CPM | PERT/CPM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the tasks on a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relationships between tasks with project activities in order of dependency on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lot a critical path through th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s the time needed to complete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Project Management -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definable unit of work with an estimated duration, usually performed by one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Dependency (or li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relationship between two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n’t put the roof on until you lay the foun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n’t see the travel agent until you plan the hol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olving – 7 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848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DDTD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In this unit documentation is not 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 M -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zero-duration task eg a point in time. Used to indicate major stages in th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ngest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path in the project. Any changes to tasks on the critical path will affect the end date of the project (minimum tim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no lag time or float 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 M -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0" y="232416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2416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 M -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0" y="232416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2416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 M -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-Time, a waiting period chosen by the project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ck time or Lags, amount of time between tasks; often planned allowing event to run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ecessor, a task that must be completed prior to current or specified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olving: 1 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vestigate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etermine what information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etermine data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sider the format of possibl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rom the identified alternative solutions determine which is best able to meet the organsiation’s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esent a project brief to management for appro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ing the data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ing an appropriate softwar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cessing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acr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e layout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e tes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e co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ject Manage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- 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 – Overall style used to present information, (output), eg. Letters, reports, web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tions – Formal way or rules of displaying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- 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aming conven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file in suitably named f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aningful fi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ile extension provided by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oter i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datory conven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/month/yr in Australia; ABN and TFN on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ly format h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whit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 to arrang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e information vertically on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ull block and open punctuation for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, title appropriate; name of person &amp;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48 point for 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32 point for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ontrasting colors, dark background &amp; light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whit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contrasting co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image size to 100kb for page (unless broadb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onsistent navigation 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last updated and emai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3:42:24Z</dcterms:created>
  <dc:creator>KB</dc:creator>
  <dc:description/>
  <dc:language>en-US</dc:language>
  <cp:lastModifiedBy>Kelvin Baird</cp:lastModifiedBy>
  <dcterms:modified xsi:type="dcterms:W3CDTF">2006-12-29T02:14:19Z</dcterms:modified>
  <cp:revision>10</cp:revision>
  <dc:subject/>
  <dc:title>System Development Life Cycle</dc:title>
</cp:coreProperties>
</file>